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CE9D-A1CF-4100-8911-FABE348ED4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NIV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B62-3198-4A39-BFDF-0D1E4F29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5F8-9931-41C2-B1B1-02214D20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5AF-E4C8-4282-9228-11E2D63B6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C322-E168-4CCA-B1AD-B34E62A7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21E-CD01-4618-A74C-AF07E581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2032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85360" y="297180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5564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92032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085360" y="3142080"/>
            <a:ext cx="206136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64022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404F-6267-4F22-B23D-4258B6A6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C11-3FDD-4DE4-807E-5B7FC0D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065-4EC2-4B8F-BD82-91ADB8CF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2280" y="2171880"/>
            <a:ext cx="1627344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9657-A80B-4895-95AB-229E7B22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239-0485-4061-873B-9F74F98E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36320" y="314208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75C-99BF-4A47-B0CA-A7AFA2D4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64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36320" y="2971800"/>
            <a:ext cx="312408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640" y="3142080"/>
            <a:ext cx="6402240" cy="1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0B3-36F8-4C7B-BD08-85DE7748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920" y="115560"/>
            <a:ext cx="87040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2055960" indent="-227160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2055960" indent="-22716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07720" y="6563880"/>
            <a:ext cx="213372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20" y="6563880"/>
            <a:ext cx="186516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1840" y="6563880"/>
            <a:ext cx="420840" cy="1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F141-DA88-4EA8-B73F-DB34276D81C1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2280" y="2171880"/>
            <a:ext cx="162734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14245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245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14245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itka.pohankova@nuov.cz" TargetMode="External"/><Relationship Id="rId3" Type="http://schemas.openxmlformats.org/officeDocument/2006/relationships/hyperlink" Target="http://www.nuov.cz/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absolvent.cz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80240" y="2108160"/>
            <a:ext cx="3263760" cy="474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76680" y="1700280"/>
            <a:ext cx="611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1989000"/>
            <a:ext cx="54007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árodní ústav odborného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Aktuální úkoly v příštím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66"/>
                </a:solidFill>
                <a:latin typeface="Arial"/>
              </a:rPr>
              <a:t>Jitka Pohank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Celostátní seminář ředitelů středních průmyslových šk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Špindlerův Mlýn, 6. – 8. 10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ČR v EU –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RefeNet, TTnet, aktivity OECD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ordinační centrum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síť pro podporu rozvoje OV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Národní centrum Europass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CVET (společné LdV projekt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mplementace EQAR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6666"/>
                </a:solidFill>
                <a:latin typeface="Arial"/>
              </a:rPr>
              <a:t>Aktivity související s členstvím ČR v EU</a:t>
            </a: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Kontakty se zahraničními institucemi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Informace o zapojení do mezinárodních projektů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Podíl na činnosti centrálních evropských výborů a organizací (Cedefop, ETF, DG VET)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 koho a s kým spolupracujem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MŠMT, další OPŘO, ČŠI, další ministerstva, kraje, zaměstnavatelé (svazy, HK, asociace, cechy,…)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školy</a:t>
            </a:r>
            <a:r>
              <a:rPr b="0" lang="en-US" sz="2400" spc="-1" strike="noStrike">
                <a:solidFill>
                  <a:srgbClr val="014245"/>
                </a:solidFill>
                <a:latin typeface="Arial"/>
              </a:rPr>
              <a:t>, veřejnost, zahraniční partneři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4245"/>
                </a:solidFill>
                <a:latin typeface="Arial"/>
              </a:rPr>
              <a:t>Děkuji za pozornost.</a:t>
            </a: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4245"/>
                </a:solidFill>
                <a:latin typeface="Arial"/>
              </a:rPr>
              <a:t>Jitka Pohanková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itka.pohankova@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uov.cz</a:t>
            </a:r>
            <a:r>
              <a:rPr b="0" lang="en-US" sz="1800" spc="-1" strike="noStrike" u="sng">
                <a:solidFill>
                  <a:srgbClr val="014245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92120"/>
            <a:ext cx="815976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0000"/>
                </a:solidFill>
                <a:latin typeface="Arial Unicode MS"/>
              </a:rPr>
              <a:t>Hlavní oblasti činnosti</a:t>
            </a:r>
            <a:r>
              <a:rPr b="0" lang="cs-CZ" sz="2000" spc="-1" strike="noStrike">
                <a:solidFill>
                  <a:srgbClr val="800000"/>
                </a:solidFill>
                <a:latin typeface="Arial Unicode MS"/>
              </a:rPr>
              <a:t> 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920" y="1339560"/>
            <a:ext cx="85579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urikulum - cíle a obsah odborné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Další vzdělávání pedagogických pracovníků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valifikace – vedení a rozvoj Národní soustavy kvalifikac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Sociální partner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Uznávání výsledků neformálního vzdělávání a informálního uče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, aktivity vyplývající z členství v EU</a:t>
            </a:r>
            <a:endParaRPr b="0" lang="en-US" sz="20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-217800"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Jiné aktivity</a:t>
            </a: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 (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STU, bulletin Odborné vzdělávání, zpravodaj Odborné vzdělávání v zahraničí)</a:t>
            </a:r>
            <a:endParaRPr b="0" lang="en-US" sz="1400" spc="-1" strike="noStrike">
              <a:solidFill>
                <a:srgbClr val="014245"/>
              </a:solidFill>
              <a:latin typeface="Arial"/>
            </a:endParaRPr>
          </a:p>
          <a:p>
            <a:pPr lvl="4" marL="1973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4245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1424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urikulum – cíle a obsah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Tvorba RVP,  transformace soustavy oborů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 - (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H (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215) 82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E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104) 36, 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J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20) 5,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 M, L/0 </a:t>
            </a:r>
            <a:r>
              <a:rPr b="0" i="1" lang="cs-CZ" sz="1400" spc="-1" strike="noStrike">
                <a:solidFill>
                  <a:srgbClr val="014245"/>
                </a:solidFill>
                <a:latin typeface="Arial"/>
              </a:rPr>
              <a:t>(391) 110,  L/5  (93) 33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ývoj kurikula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činnosti a postupy pro monitorování RVP – zadání pro výzkumná šetření (MŠMT, OPŘO, </a:t>
            </a:r>
            <a:r>
              <a:rPr b="1" lang="cs-CZ" sz="1400" spc="-1" strike="noStrike">
                <a:solidFill>
                  <a:srgbClr val="014245"/>
                </a:solidFill>
                <a:latin typeface="Arial"/>
              </a:rPr>
              <a:t>oborové skupiny)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Modernizace vzdělávání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CEFIF, finanční gramotnost, EVVO a VUR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vzdělávání a profesního uplatnění žáků s SPV; péče o nadané žáky </a:t>
            </a: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– spolupráce s IPPP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Metodika II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ta odborného vzdělává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Podpora zajišťování kvality odborného vzdělávání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 reflexe evropského vývoje, Doporučení Rady EU k implementaci Evropského rámce pro zajišťování kvality (EQARF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ZZ, Cesta ke kvalitě, Kurikulum S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izace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profilové části MZ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vzdělávání pedagogických pracovníků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rámci počátečního odborného vzdělávání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 potřeb a projektování ŠVP ve vazbě na RVP a NSK, didaktické aspekty realizace výuky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dalšího odborn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– průzkumy potřeb, projektování programů DV, realizace DV, celoživotní kariérové poradenství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v souvislosti s realizací zájmového popř. občanského vzdělávání na školách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- </a:t>
            </a:r>
            <a:r>
              <a:rPr b="0" lang="cs-CZ" sz="1300" spc="-1" strike="noStrike">
                <a:solidFill>
                  <a:srgbClr val="014245"/>
                </a:solidFill>
                <a:latin typeface="Arial"/>
              </a:rPr>
              <a:t>průzkumy potřeb, projektování programů DV, realizace DV</a:t>
            </a:r>
            <a:endParaRPr b="1" lang="en-US" sz="1300" spc="-1" strike="noStrike">
              <a:solidFill>
                <a:srgbClr val="01424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14245"/>
                </a:solidFill>
                <a:latin typeface="Arial"/>
              </a:rPr>
              <a:t>DV PP  v souvislosti s realizací uznávání výsledků předchozího učení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metodické sjednocování postupů,poradenské a podpůrné aktivity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úkoly kmenové činnosti: 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01424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IPn projekty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urikulum S, Metodika II,</a:t>
            </a:r>
            <a:r>
              <a:rPr b="0" lang="cs-CZ" sz="18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,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   Koncept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valifikace – vedení a rozvoj NSK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vedení NSK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úkol ze zákona č. 179/2006; implementace strategie celoživotního učení; aktivity s mezinárodním kontextem reagují na potřeby reakce české kvalifikační soustavy na předpokládané zavádění ECVET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IPn projekty: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Rozvoj a implementace Národní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soustavy kvalifikac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–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návrh systémových  mechanismů pr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oblast DV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0000"/>
                </a:solidFill>
                <a:latin typeface="Arial"/>
              </a:rPr>
              <a:t>UNIV 2 –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proměna škol v centra celoživotního 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14245"/>
                </a:solidFill>
                <a:latin typeface="Arial"/>
              </a:rPr>
              <a:t>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ociální partnerstv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odpora partnerství škol a zaměstnavatelů</a:t>
            </a:r>
            <a:r>
              <a:rPr b="1" lang="cs-CZ" sz="20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Řízení a koordinace činnosti oborových skupin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koncepční skupina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dborné skupiny, Národní síť pro podporu zajišťování kvality odborného vzdělávání, poradní skupina - součást Koordinačního centra EQF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oborové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14245"/>
                </a:solidFill>
                <a:latin typeface="Arial"/>
              </a:rPr>
              <a:t>pracovní skupiny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349"/>
              </a:spcBef>
              <a:buClr>
                <a:srgbClr val="01424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14245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todická a informační podpora sektorovým radám –  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IPn NSK2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-209520">
              <a:spcBef>
                <a:spcPts val="49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Mezinárodní spolupráce – EQF, ECVET, EQARF</a:t>
            </a: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lvl="1" marL="800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marL="20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30560" y="509760"/>
            <a:ext cx="691344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znávání výsledků neformálního vzdělávání a informálního učení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proces uznávání výsledků předchozího uče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dentifikuje, dokumentuje, hodnotí a uznává kompetence jednotlivce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úkoly v kmenové činnosti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IPn: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NSK2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andardy – kvalita a validita celého procesu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UNIV 2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centra CŽU – proces uznávání</a:t>
            </a:r>
            <a:r>
              <a:rPr b="1" lang="cs-CZ" sz="1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800000"/>
                </a:solidFill>
                <a:latin typeface="Arial"/>
              </a:rPr>
              <a:t>Koncept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(stimulace poptávky jednotlivců i podniků   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po DV, uznávání výsledků DV ve vazbě na 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6666"/>
                </a:solidFill>
                <a:latin typeface="Arial"/>
              </a:rPr>
              <a:t>    NSK a UNIV,…)</a:t>
            </a: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30560" y="722160"/>
            <a:ext cx="69134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alší činnost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6214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Koncepce dalšího vzděláván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systémové prostředí pro oblast DV (Implementace strategie celoživotního učení</a:t>
            </a:r>
            <a:endParaRPr b="1" lang="en-US" sz="16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Celoživotní kariérové poradenství – 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integrovaný systém kariérového poradenství,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foabsolvent.cz</a:t>
            </a:r>
            <a:r>
              <a:rPr b="0" lang="cs-CZ" sz="1600" spc="-1" strike="noStrike">
                <a:solidFill>
                  <a:srgbClr val="006666"/>
                </a:solidFill>
                <a:latin typeface="Arial"/>
              </a:rPr>
              <a:t> (propojuje informace o školách a oborech vzdělánís poznatky o uplatnění absolventů na trhu práce a o potřebách zaměstnavatelů), Centrum kariérového poradenství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(IPn </a:t>
            </a:r>
            <a:r>
              <a:rPr b="0" lang="cs-CZ" sz="1400" spc="-1" strike="noStrike">
                <a:solidFill>
                  <a:srgbClr val="800000"/>
                </a:solidFill>
                <a:latin typeface="Arial"/>
              </a:rPr>
              <a:t>VIP Kariéra II )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66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6666"/>
                </a:solidFill>
                <a:latin typeface="Arial"/>
              </a:rPr>
              <a:t>Analýzy trhu práce – </a:t>
            </a:r>
            <a:r>
              <a:rPr b="0" lang="cs-CZ" sz="1400" spc="-1" strike="noStrike">
                <a:solidFill>
                  <a:srgbClr val="006666"/>
                </a:solidFill>
                <a:latin typeface="Arial"/>
              </a:rPr>
              <a:t>vývoj ekonomiky, technologií, a kvalifikačních požadavků profesí, analýzy vývoje zaměstnanosti a nezaměstnanosti, stav a vývoj nabídky pracovních příležitostí, vývoj počtu žáků škol podle oborové struktury a vzdělanostní úrovně, přechod absolventů na trh práce a do terciáru, postavení absolventů škol na trhu práce, analýzy stavu a vývoje nezaměstnanosti a absolventů škol, analýzy příčin předčasných odchodů ze vzdělávání </a:t>
            </a: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1424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54216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60" y="1339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60" y="21852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60" y="31075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8:40:17Z</dcterms:created>
  <dc:creator>kasparov</dc:creator>
  <dc:description/>
  <dc:language>en-US</dc:language>
  <cp:lastModifiedBy>Jitka Pohanková</cp:lastModifiedBy>
  <dcterms:modified xsi:type="dcterms:W3CDTF">2009-10-07T05:59:59Z</dcterms:modified>
  <cp:revision>110</cp:revision>
  <dc:subject/>
  <dc:title>KURIKULUM S</dc:title>
</cp:coreProperties>
</file>