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6AD5-2D87-46A7-8DB1-005B5364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65A2-5F8E-4BB7-B414-B0F484AA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D021-3FA2-4694-9B2F-A0FDDE84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A6E1-13E1-4F26-ABBB-B542DEB6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D706-95A5-4C45-A8D2-BA3D471C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942A-0600-416F-996F-B7F88C6B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A3C4-8AEA-4282-8D3D-E689505A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39F3-2914-4316-89F2-6E53FBF1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F788B-EB56-4C0D-82CB-6447AD8C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972F-5E18-4C3A-A6F5-9F75E50B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F190-9E52-4730-A34F-4805FE52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AF692-D85A-4A03-85E3-8BF9F2CD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DE64-1DE4-43E8-803B-5126A008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5C44-E2FF-438B-AACE-231AD09D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A493-6E0D-442E-BB6B-006D4295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74D1-3989-4CAA-B23E-86B47582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2373-B18A-41E2-BA9C-845F1797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FEDA2-D084-4115-9050-FBB5963D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7804-7FE1-42AF-A61F-E19073C6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1111-64AF-4413-A290-BD95E877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CFEE-F854-4577-9AE0-578FC1BF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50257-38EB-4623-AE2D-83417628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A522-CE13-4B97-A1CE-A324D9C0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ADEC-AFC0-4022-9EE1-49FB2565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CE55-EA80-4551-90F9-D42281A6F9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4521-4846-4AF4-B91D-395B2F5D56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zakladatelsk&#225;%20smlouva.pdf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&#345;ehled%20VH_nejd&#367;le&#382;it&#283;j&#353;&#237;%20ud&#225;losti.doc" TargetMode="Externa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Asociace průmyslových škol České republiky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hačo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– 7. října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oslav Pon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Z historie Asociace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Zakladatelská listina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Kop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Valné hromady a nejdůležitější událost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Jak dál s Asociací?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755640" y="4149720"/>
            <a:ext cx="7862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ZESHA - Unie školských asociací ČR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2411280" y="981000"/>
            <a:ext cx="4032360" cy="2244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881360" y="63360"/>
            <a:ext cx="5381280" cy="67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256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5" name=""/>
          <p:cNvGraphicFramePr/>
          <p:nvPr/>
        </p:nvGraphicFramePr>
        <p:xfrm>
          <a:off x="179280" y="620640"/>
          <a:ext cx="8964720" cy="596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20640"/>
                    <a:ext cx="8964720" cy="59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9:51:03Z</dcterms:created>
  <dc:creator>ponec</dc:creator>
  <dc:description/>
  <dc:language>en-US</dc:language>
  <cp:lastModifiedBy>sumbal</cp:lastModifiedBy>
  <dcterms:modified xsi:type="dcterms:W3CDTF">2010-10-05T09:41:44Z</dcterms:modified>
  <cp:revision>5</cp:revision>
  <dc:subject/>
  <dc:title>Asociace průmyslových škol České republiky</dc:title>
</cp:coreProperties>
</file>