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E2475-6F52-46B1-9FE2-26042A47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C97F5-7A94-474B-9CF1-5F72BBFA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FE400-73A1-4871-858E-F649D694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8A22C-7B2E-4192-ABFF-B12A12C5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9632-C461-4C0B-95A5-8885EBED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D6A9-839D-469A-AB2F-84ABDAD3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F610-0362-4CBF-B1B0-AA835D38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D0B6-BE09-4E86-AC8C-2E9303D7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8D87-9FB8-4B0F-A22D-595F4C05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53DE-62D2-41ED-B563-E99AAA9A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D52D-29D6-4DBD-9E18-4C88A488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091E4-5DD5-4912-AB79-DFD2C6D3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A768-6A01-45EA-8014-A618FF64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0798-4CFE-4B33-A1CF-720A9FA0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1492-251E-4951-9CF1-2B09C49A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F711-146B-4D48-8CD6-DE201A7A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DFF6-4A8E-4303-BC7C-D218A9C0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4F467-C5B5-412C-8F74-EC6D6E5C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129AB-22DB-4D77-961E-E8EEC729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2C4D-2A2D-41F9-A4B1-F3E8C16D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D2178-E8D3-48BB-B68F-ADC8E53A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FD0B3-93EB-437C-BAE7-D51E93C4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592D1-4E2A-4D70-A956-83ACDD03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0A7D1-90AF-4F6B-BDA4-907E3825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91D8-2D20-4719-BCBA-A01C324172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C569-2046-453E-9243-3A99B65A9A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zakladatelsk&#225;%20smlouva.pdf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&#345;ehled%20VH_nejd&#367;le&#382;it&#283;j&#353;&#237;%20ud&#225;losti.doc" TargetMode="Externa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Asociace průmyslových škol České republiky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hačo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– 7. října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roslav Pon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Z historie Asociace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Zakladatelská listin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Kop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Valné hromady a nejdůležitější událost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Jak dál s Asociací?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755640" y="4149720"/>
            <a:ext cx="7862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ZESHA - Unie školských asociací ČR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0099ff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2411280" y="981000"/>
            <a:ext cx="4032360" cy="2244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1881360" y="63360"/>
            <a:ext cx="5381280" cy="67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256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5" name=""/>
          <p:cNvGraphicFramePr/>
          <p:nvPr/>
        </p:nvGraphicFramePr>
        <p:xfrm>
          <a:off x="179280" y="620640"/>
          <a:ext cx="8964720" cy="596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20640"/>
                    <a:ext cx="8964720" cy="59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9:51:03Z</dcterms:created>
  <dc:creator>ponec</dc:creator>
  <dc:description/>
  <dc:language>en-US</dc:language>
  <cp:lastModifiedBy>sumbal</cp:lastModifiedBy>
  <dcterms:modified xsi:type="dcterms:W3CDTF">2010-10-05T09:41:44Z</dcterms:modified>
  <cp:revision>5</cp:revision>
  <dc:subject/>
  <dc:title>Asociace průmyslových škol České republiky</dc:title>
</cp:coreProperties>
</file>